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3424-3033-494B-82FA-F3FC3969A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DEC2-8F7D-47A7-B27E-4CC4ACEF0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B39A-F3F5-401D-A0FC-5B1A51FB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A299-46B9-46CB-BE00-9F942440F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DE4E-9CBD-4E07-8828-42096725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2F9F-DC3C-436A-A776-1663FA4BD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C732-EB1E-4D1C-99EE-54A47BB40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FCA0-A190-4C81-9972-FE584DC4D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2832-C3BB-4605-B14F-A65CF078C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EC9F-239B-4FE1-A1ED-70D88A1BA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768B-0AFE-47E1-A384-23CDB007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3E4B-47FB-4EAF-A9D0-D996D1F8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A529-AEBD-4289-8E13-E0B92DD9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8891-FCA1-40C1-A4EE-EB2FDEDCB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E8B-6A52-41C1-9FAD-1C15D414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1C3-640E-4598-8FDE-FD343FC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C74-6DFB-4E46-87ED-729E7A04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5E7-99F6-4676-B3BC-C7737319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548-CABE-41FE-BFD0-E2CD28F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EE9-8B08-4FF4-BB02-0051466F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C66-D05E-4DB1-8F42-20E388F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36D-F676-4AE9-B7AD-4088DBB4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62E-34E4-4E45-9570-BDA8C0C9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675-DE30-4BD6-8808-415E0D43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C6B-44F5-46DB-8DAF-66B8E3A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BB1-1C53-4F6B-A181-0E6B469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825-EE79-4E99-8B1D-A909CE41C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685800" y="533520"/>
            <a:ext cx="8077320" cy="34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latin typeface="Antique Olive"/>
              </a:rPr>
              <a:t>Multiplication</a:t>
            </a:r>
            <a:endParaRPr b="0" lang="en-US" sz="4800" spc="1" strike="noStrike">
              <a:ln w="9360">
                <a:solidFill>
                  <a:srgbClr val="003300"/>
                </a:solidFill>
                <a:miter/>
              </a:ln>
              <a:solidFill>
                <a:srgbClr val="339966"/>
              </a:solidFill>
              <a:latin typeface="Antique Olive"/>
              <a:ea typeface="Antique Olive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52480" y="3733920"/>
            <a:ext cx="6019920" cy="157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Dr. Beth McCulloch V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Athens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PT3 Grant Funding, Summ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UNIVERSITYLOGO"/>
          <p:cNvPicPr/>
          <p:nvPr/>
        </p:nvPicPr>
        <p:blipFill>
          <a:blip r:embed="rId1"/>
          <a:stretch/>
        </p:blipFill>
        <p:spPr>
          <a:xfrm>
            <a:off x="3200400" y="5486400"/>
            <a:ext cx="2921040" cy="914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990720" y="380880"/>
            <a:ext cx="6476760" cy="182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Lucida Casual"/>
              </a:rPr>
              <a:t>3 x 6 = 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Object 3"/>
          <p:cNvGraphicFramePr/>
          <p:nvPr/>
        </p:nvGraphicFramePr>
        <p:xfrm>
          <a:off x="2819520" y="4572000"/>
          <a:ext cx="5904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4"/>
          <p:cNvGraphicFramePr/>
          <p:nvPr/>
        </p:nvGraphicFramePr>
        <p:xfrm>
          <a:off x="3429000" y="4572000"/>
          <a:ext cx="5904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5"/>
          <p:cNvGraphicFramePr/>
          <p:nvPr/>
        </p:nvGraphicFramePr>
        <p:xfrm>
          <a:off x="4038480" y="4572000"/>
          <a:ext cx="59076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45720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6"/>
          <p:cNvGraphicFramePr/>
          <p:nvPr/>
        </p:nvGraphicFramePr>
        <p:xfrm>
          <a:off x="4648320" y="4572000"/>
          <a:ext cx="59040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7"/>
          <p:cNvGraphicFramePr/>
          <p:nvPr/>
        </p:nvGraphicFramePr>
        <p:xfrm>
          <a:off x="5257800" y="4572000"/>
          <a:ext cx="59040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8"/>
          <p:cNvGraphicFramePr/>
          <p:nvPr/>
        </p:nvGraphicFramePr>
        <p:xfrm>
          <a:off x="5867280" y="4572000"/>
          <a:ext cx="59076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45720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9"/>
          <p:cNvGraphicFramePr/>
          <p:nvPr/>
        </p:nvGraphicFramePr>
        <p:xfrm>
          <a:off x="2819520" y="5181480"/>
          <a:ext cx="59040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3429000" y="5181480"/>
          <a:ext cx="59040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1"/>
          <p:cNvGraphicFramePr/>
          <p:nvPr/>
        </p:nvGraphicFramePr>
        <p:xfrm>
          <a:off x="4038480" y="5181480"/>
          <a:ext cx="59076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9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51814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2"/>
          <p:cNvGraphicFramePr/>
          <p:nvPr/>
        </p:nvGraphicFramePr>
        <p:xfrm>
          <a:off x="4648320" y="5181480"/>
          <a:ext cx="590400" cy="56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1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13"/>
          <p:cNvGraphicFramePr/>
          <p:nvPr/>
        </p:nvGraphicFramePr>
        <p:xfrm>
          <a:off x="5257800" y="5181480"/>
          <a:ext cx="590400" cy="56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33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5780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14"/>
          <p:cNvGraphicFramePr/>
          <p:nvPr/>
        </p:nvGraphicFramePr>
        <p:xfrm>
          <a:off x="5867280" y="5181480"/>
          <a:ext cx="59076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35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51814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15"/>
          <p:cNvGraphicFramePr/>
          <p:nvPr/>
        </p:nvGraphicFramePr>
        <p:xfrm>
          <a:off x="2819520" y="5791320"/>
          <a:ext cx="590400" cy="56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19520" y="57913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16"/>
          <p:cNvGraphicFramePr/>
          <p:nvPr/>
        </p:nvGraphicFramePr>
        <p:xfrm>
          <a:off x="3429000" y="5791320"/>
          <a:ext cx="590400" cy="561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39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7913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17"/>
          <p:cNvGraphicFramePr/>
          <p:nvPr/>
        </p:nvGraphicFramePr>
        <p:xfrm>
          <a:off x="4038480" y="5791320"/>
          <a:ext cx="590760" cy="561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41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57913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8"/>
          <p:cNvGraphicFramePr/>
          <p:nvPr/>
        </p:nvGraphicFramePr>
        <p:xfrm>
          <a:off x="4648320" y="5791320"/>
          <a:ext cx="590400" cy="561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43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648320" y="57913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9"/>
          <p:cNvGraphicFramePr/>
          <p:nvPr/>
        </p:nvGraphicFramePr>
        <p:xfrm>
          <a:off x="5257800" y="5791320"/>
          <a:ext cx="590400" cy="561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45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57800" y="57913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20"/>
          <p:cNvGraphicFramePr/>
          <p:nvPr/>
        </p:nvGraphicFramePr>
        <p:xfrm>
          <a:off x="5867280" y="5791320"/>
          <a:ext cx="590760" cy="561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47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867280" y="57913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25"/>
          <p:cNvGrpSpPr/>
          <p:nvPr/>
        </p:nvGrpSpPr>
        <p:grpSpPr>
          <a:xfrm>
            <a:off x="1371600" y="4572000"/>
            <a:ext cx="1371600" cy="1752480"/>
            <a:chOff x="1371600" y="4572000"/>
            <a:chExt cx="1371600" cy="1752480"/>
          </a:xfrm>
        </p:grpSpPr>
        <p:sp>
          <p:nvSpPr>
            <p:cNvPr id="449" name="AutoShape 21"/>
            <p:cNvSpPr/>
            <p:nvPr/>
          </p:nvSpPr>
          <p:spPr>
            <a:xfrm>
              <a:off x="2286000" y="4572000"/>
              <a:ext cx="457200" cy="1752480"/>
            </a:xfrm>
            <a:custGeom>
              <a:avLst/>
              <a:gdLst>
                <a:gd name="textAreaLeft" fmla="*/ 134280 w 457200"/>
                <a:gd name="textAreaRight" fmla="*/ 457560 w 457200"/>
                <a:gd name="textAreaTop" fmla="*/ 72720 h 1752480"/>
                <a:gd name="textAreaBottom" fmla="*/ 167976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22"/>
            <p:cNvSpPr/>
            <p:nvPr/>
          </p:nvSpPr>
          <p:spPr>
            <a:xfrm>
              <a:off x="1371600" y="480060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Lucida Casu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Group 26"/>
          <p:cNvGrpSpPr/>
          <p:nvPr/>
        </p:nvGrpSpPr>
        <p:grpSpPr>
          <a:xfrm>
            <a:off x="2966040" y="3048120"/>
            <a:ext cx="3439440" cy="1477800"/>
            <a:chOff x="2966040" y="3048120"/>
            <a:chExt cx="3439440" cy="1477800"/>
          </a:xfrm>
        </p:grpSpPr>
        <p:sp>
          <p:nvSpPr>
            <p:cNvPr id="452" name="Text Box 23"/>
            <p:cNvSpPr/>
            <p:nvPr/>
          </p:nvSpPr>
          <p:spPr>
            <a:xfrm>
              <a:off x="4191120" y="304812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Lucida Casual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24"/>
            <p:cNvSpPr/>
            <p:nvPr/>
          </p:nvSpPr>
          <p:spPr>
            <a:xfrm rot="5339400">
              <a:off x="4380840" y="2476080"/>
              <a:ext cx="609480" cy="3429000"/>
            </a:xfrm>
            <a:custGeom>
              <a:avLst/>
              <a:gdLst>
                <a:gd name="textAreaLeft" fmla="*/ 179280 w 609480"/>
                <a:gd name="textAreaRight" fmla="*/ 609840 w 609480"/>
                <a:gd name="textAreaTop" fmla="*/ 142560 h 3429000"/>
                <a:gd name="textAreaBottom" fmla="*/ 328644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838080" y="914400"/>
            <a:ext cx="6096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Lucida Casual"/>
              </a:rPr>
              <a:t>Or we can turn it the other way and show it like thi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990720" y="380880"/>
            <a:ext cx="6400800" cy="129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Casu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Lucida Casual"/>
              </a:rPr>
              <a:t>6  x  3 = 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Object 3"/>
          <p:cNvGraphicFramePr/>
          <p:nvPr/>
        </p:nvGraphicFramePr>
        <p:xfrm>
          <a:off x="3352680" y="4800600"/>
          <a:ext cx="5907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8006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4"/>
          <p:cNvGraphicFramePr/>
          <p:nvPr/>
        </p:nvGraphicFramePr>
        <p:xfrm>
          <a:off x="3962520" y="4800600"/>
          <a:ext cx="5904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8006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5"/>
          <p:cNvGraphicFramePr/>
          <p:nvPr/>
        </p:nvGraphicFramePr>
        <p:xfrm>
          <a:off x="4572000" y="4800600"/>
          <a:ext cx="59040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8006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6"/>
          <p:cNvGraphicFramePr/>
          <p:nvPr/>
        </p:nvGraphicFramePr>
        <p:xfrm>
          <a:off x="3352680" y="2971800"/>
          <a:ext cx="59076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29718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7"/>
          <p:cNvGraphicFramePr/>
          <p:nvPr/>
        </p:nvGraphicFramePr>
        <p:xfrm>
          <a:off x="3962520" y="2971800"/>
          <a:ext cx="59040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29718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8"/>
          <p:cNvGraphicFramePr/>
          <p:nvPr/>
        </p:nvGraphicFramePr>
        <p:xfrm>
          <a:off x="4572000" y="2971800"/>
          <a:ext cx="59040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7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9718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9"/>
          <p:cNvGraphicFramePr/>
          <p:nvPr/>
        </p:nvGraphicFramePr>
        <p:xfrm>
          <a:off x="3352680" y="5410080"/>
          <a:ext cx="59076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54100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"/>
          <p:cNvGraphicFramePr/>
          <p:nvPr/>
        </p:nvGraphicFramePr>
        <p:xfrm>
          <a:off x="3962520" y="5410080"/>
          <a:ext cx="59040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1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54100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1"/>
          <p:cNvGraphicFramePr/>
          <p:nvPr/>
        </p:nvGraphicFramePr>
        <p:xfrm>
          <a:off x="4572000" y="5410080"/>
          <a:ext cx="59040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3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54100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2"/>
          <p:cNvGraphicFramePr/>
          <p:nvPr/>
        </p:nvGraphicFramePr>
        <p:xfrm>
          <a:off x="3352680" y="3581280"/>
          <a:ext cx="590760" cy="56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5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52680" y="35812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13"/>
          <p:cNvGraphicFramePr/>
          <p:nvPr/>
        </p:nvGraphicFramePr>
        <p:xfrm>
          <a:off x="3962520" y="3581280"/>
          <a:ext cx="590400" cy="56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62520" y="35812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14"/>
          <p:cNvGraphicFramePr/>
          <p:nvPr/>
        </p:nvGraphicFramePr>
        <p:xfrm>
          <a:off x="4572000" y="3581280"/>
          <a:ext cx="59040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0" y="35812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15"/>
          <p:cNvGraphicFramePr/>
          <p:nvPr/>
        </p:nvGraphicFramePr>
        <p:xfrm>
          <a:off x="3352680" y="6019920"/>
          <a:ext cx="590760" cy="56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8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60199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6"/>
          <p:cNvGraphicFramePr/>
          <p:nvPr/>
        </p:nvGraphicFramePr>
        <p:xfrm>
          <a:off x="3962520" y="6019920"/>
          <a:ext cx="590400" cy="561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62520" y="60199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17"/>
          <p:cNvGraphicFramePr/>
          <p:nvPr/>
        </p:nvGraphicFramePr>
        <p:xfrm>
          <a:off x="4572000" y="6019920"/>
          <a:ext cx="590400" cy="561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8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72000" y="60199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18"/>
          <p:cNvGraphicFramePr/>
          <p:nvPr/>
        </p:nvGraphicFramePr>
        <p:xfrm>
          <a:off x="3352680" y="4191120"/>
          <a:ext cx="590760" cy="561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87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52680" y="41911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9"/>
          <p:cNvGraphicFramePr/>
          <p:nvPr/>
        </p:nvGraphicFramePr>
        <p:xfrm>
          <a:off x="3962520" y="4191120"/>
          <a:ext cx="590400" cy="561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89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962520" y="41911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20"/>
          <p:cNvGraphicFramePr/>
          <p:nvPr/>
        </p:nvGraphicFramePr>
        <p:xfrm>
          <a:off x="4572000" y="4191120"/>
          <a:ext cx="590400" cy="561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91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572000" y="41911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2" name="Group 28"/>
          <p:cNvGrpSpPr/>
          <p:nvPr/>
        </p:nvGrpSpPr>
        <p:grpSpPr>
          <a:xfrm>
            <a:off x="3348000" y="1828800"/>
            <a:ext cx="1761840" cy="1236960"/>
            <a:chOff x="3348000" y="1828800"/>
            <a:chExt cx="1761840" cy="1236960"/>
          </a:xfrm>
        </p:grpSpPr>
        <p:sp>
          <p:nvSpPr>
            <p:cNvPr id="493" name="AutoShape 22"/>
            <p:cNvSpPr/>
            <p:nvPr/>
          </p:nvSpPr>
          <p:spPr>
            <a:xfrm rot="5329800">
              <a:off x="3999960" y="1942920"/>
              <a:ext cx="457200" cy="1752840"/>
            </a:xfrm>
            <a:custGeom>
              <a:avLst/>
              <a:gdLst>
                <a:gd name="textAreaLeft" fmla="*/ 134280 w 457200"/>
                <a:gd name="textAreaRight" fmla="*/ 457560 w 457200"/>
                <a:gd name="textAreaTop" fmla="*/ 72720 h 1752840"/>
                <a:gd name="textAreaBottom" fmla="*/ 1680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23"/>
            <p:cNvSpPr/>
            <p:nvPr/>
          </p:nvSpPr>
          <p:spPr>
            <a:xfrm>
              <a:off x="3886200" y="182880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Lucida Casu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27"/>
          <p:cNvGrpSpPr/>
          <p:nvPr/>
        </p:nvGrpSpPr>
        <p:grpSpPr>
          <a:xfrm>
            <a:off x="2057400" y="3123360"/>
            <a:ext cx="1223640" cy="3430440"/>
            <a:chOff x="2057400" y="3123360"/>
            <a:chExt cx="1223640" cy="3430440"/>
          </a:xfrm>
        </p:grpSpPr>
        <p:sp>
          <p:nvSpPr>
            <p:cNvPr id="496" name="Text Box 25"/>
            <p:cNvSpPr/>
            <p:nvPr/>
          </p:nvSpPr>
          <p:spPr>
            <a:xfrm>
              <a:off x="2057400" y="411480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Lucida Casual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AutoShape 26"/>
            <p:cNvSpPr/>
            <p:nvPr/>
          </p:nvSpPr>
          <p:spPr>
            <a:xfrm rot="9000">
              <a:off x="2666520" y="3124080"/>
              <a:ext cx="609840" cy="3429000"/>
            </a:xfrm>
            <a:custGeom>
              <a:avLst/>
              <a:gdLst>
                <a:gd name="textAreaLeft" fmla="*/ 179280 w 609840"/>
                <a:gd name="textAreaRight" fmla="*/ 610200 w 609840"/>
                <a:gd name="textAreaTop" fmla="*/ 142560 h 3429000"/>
                <a:gd name="textAreaBottom" fmla="*/ 328644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533520" y="289548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ject Develop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ing Tomorrow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Teachers to Use Technology (PT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. Beth McCulloch Vi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hens State University, School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thens.edu/vinso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1828800" y="762120"/>
            <a:ext cx="5029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981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sual"/>
              </a:rPr>
              <a:t>Multiplication is the process of adding equal set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33"/>
          <p:cNvGrpSpPr/>
          <p:nvPr/>
        </p:nvGrpSpPr>
        <p:grpSpPr>
          <a:xfrm>
            <a:off x="1066680" y="2590920"/>
            <a:ext cx="609840" cy="2379600"/>
            <a:chOff x="1066680" y="2590920"/>
            <a:chExt cx="609840" cy="2379600"/>
          </a:xfrm>
        </p:grpSpPr>
        <p:grpSp>
          <p:nvGrpSpPr>
            <p:cNvPr id="53" name="Group 32"/>
            <p:cNvGrpSpPr/>
            <p:nvPr/>
          </p:nvGrpSpPr>
          <p:grpSpPr>
            <a:xfrm>
              <a:off x="1066680" y="2590920"/>
              <a:ext cx="590760" cy="1304640"/>
              <a:chOff x="1066680" y="2590920"/>
              <a:chExt cx="590760" cy="1304640"/>
            </a:xfrm>
          </p:grpSpPr>
          <p:graphicFrame>
            <p:nvGraphicFramePr>
              <p:cNvPr id="54" name="Object 4"/>
              <p:cNvGraphicFramePr/>
              <p:nvPr/>
            </p:nvGraphicFramePr>
            <p:xfrm>
              <a:off x="1066680" y="3352680"/>
              <a:ext cx="590760" cy="542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5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66680" y="33526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Object 6"/>
              <p:cNvGraphicFramePr/>
              <p:nvPr/>
            </p:nvGraphicFramePr>
            <p:xfrm>
              <a:off x="1066680" y="2590920"/>
              <a:ext cx="590760" cy="542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66680" y="25909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8" name="Text Box 12"/>
            <p:cNvSpPr/>
            <p:nvPr/>
          </p:nvSpPr>
          <p:spPr>
            <a:xfrm>
              <a:off x="1066680" y="42670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34"/>
          <p:cNvGrpSpPr/>
          <p:nvPr/>
        </p:nvGrpSpPr>
        <p:grpSpPr>
          <a:xfrm>
            <a:off x="2209680" y="2590920"/>
            <a:ext cx="1447920" cy="2379600"/>
            <a:chOff x="2209680" y="2590920"/>
            <a:chExt cx="1447920" cy="2379600"/>
          </a:xfrm>
        </p:grpSpPr>
        <p:graphicFrame>
          <p:nvGraphicFramePr>
            <p:cNvPr id="60" name="Object 8"/>
            <p:cNvGraphicFramePr/>
            <p:nvPr/>
          </p:nvGraphicFramePr>
          <p:xfrm>
            <a:off x="3048120" y="3352680"/>
            <a:ext cx="59040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812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Object 9"/>
            <p:cNvGraphicFramePr/>
            <p:nvPr/>
          </p:nvGraphicFramePr>
          <p:xfrm>
            <a:off x="3048120" y="259092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120" y="259092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Text Box 16"/>
            <p:cNvSpPr/>
            <p:nvPr/>
          </p:nvSpPr>
          <p:spPr>
            <a:xfrm>
              <a:off x="3048120" y="4267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2209680" y="4267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38"/>
          <p:cNvGrpSpPr/>
          <p:nvPr/>
        </p:nvGrpSpPr>
        <p:grpSpPr>
          <a:xfrm>
            <a:off x="4038480" y="2590920"/>
            <a:ext cx="1447920" cy="2379600"/>
            <a:chOff x="4038480" y="2590920"/>
            <a:chExt cx="1447920" cy="2379600"/>
          </a:xfrm>
        </p:grpSpPr>
        <p:graphicFrame>
          <p:nvGraphicFramePr>
            <p:cNvPr id="67" name="Object 10"/>
            <p:cNvGraphicFramePr/>
            <p:nvPr/>
          </p:nvGraphicFramePr>
          <p:xfrm>
            <a:off x="4800600" y="3352680"/>
            <a:ext cx="59040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8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006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Object 11"/>
            <p:cNvGraphicFramePr/>
            <p:nvPr/>
          </p:nvGraphicFramePr>
          <p:xfrm>
            <a:off x="4800600" y="2590920"/>
            <a:ext cx="59040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0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00600" y="259092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Text Box 17"/>
            <p:cNvSpPr/>
            <p:nvPr/>
          </p:nvSpPr>
          <p:spPr>
            <a:xfrm>
              <a:off x="4876920" y="4267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4038480" y="4267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37"/>
          <p:cNvGrpSpPr/>
          <p:nvPr/>
        </p:nvGrpSpPr>
        <p:grpSpPr>
          <a:xfrm>
            <a:off x="6172200" y="2590920"/>
            <a:ext cx="2647800" cy="2379600"/>
            <a:chOff x="6172200" y="2590920"/>
            <a:chExt cx="2647800" cy="2379600"/>
          </a:xfrm>
        </p:grpSpPr>
        <p:sp>
          <p:nvSpPr>
            <p:cNvPr id="74" name="Text Box 20"/>
            <p:cNvSpPr/>
            <p:nvPr/>
          </p:nvSpPr>
          <p:spPr>
            <a:xfrm>
              <a:off x="6172200" y="4267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6"/>
            <p:cNvGrpSpPr/>
            <p:nvPr/>
          </p:nvGrpSpPr>
          <p:grpSpPr>
            <a:xfrm>
              <a:off x="7010280" y="2590920"/>
              <a:ext cx="1809720" cy="2303640"/>
              <a:chOff x="7010280" y="2590920"/>
              <a:chExt cx="1809720" cy="2303640"/>
            </a:xfrm>
          </p:grpSpPr>
          <p:graphicFrame>
            <p:nvGraphicFramePr>
              <p:cNvPr id="76" name="Object 21"/>
              <p:cNvGraphicFramePr/>
              <p:nvPr/>
            </p:nvGraphicFramePr>
            <p:xfrm>
              <a:off x="7010280" y="2590920"/>
              <a:ext cx="590760" cy="5428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7" name="Object 2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010280" y="25909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8" name="Object 22"/>
              <p:cNvGraphicFramePr/>
              <p:nvPr/>
            </p:nvGraphicFramePr>
            <p:xfrm>
              <a:off x="7620120" y="2590920"/>
              <a:ext cx="590400" cy="5428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79" name="Object 2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620120" y="25909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0" name="Object 24"/>
              <p:cNvGraphicFramePr/>
              <p:nvPr/>
            </p:nvGraphicFramePr>
            <p:xfrm>
              <a:off x="7010280" y="3276720"/>
              <a:ext cx="590760" cy="5428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81" name="Object 2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010280" y="3276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2" name="Object 25"/>
              <p:cNvGraphicFramePr/>
              <p:nvPr/>
            </p:nvGraphicFramePr>
            <p:xfrm>
              <a:off x="7620120" y="3276720"/>
              <a:ext cx="590400" cy="542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83" name="Object 2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620120" y="3276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4" name="Object 27"/>
              <p:cNvGraphicFramePr/>
              <p:nvPr/>
            </p:nvGraphicFramePr>
            <p:xfrm>
              <a:off x="8229600" y="2590920"/>
              <a:ext cx="590400" cy="542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85" name="Object 27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8229600" y="25909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6" name="Object 28"/>
              <p:cNvGraphicFramePr/>
              <p:nvPr/>
            </p:nvGraphicFramePr>
            <p:xfrm>
              <a:off x="8229600" y="3276720"/>
              <a:ext cx="590400" cy="54288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87" name="Object 28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229600" y="3276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" name="Text Box 29"/>
              <p:cNvSpPr/>
              <p:nvPr/>
            </p:nvSpPr>
            <p:spPr>
              <a:xfrm>
                <a:off x="7315200" y="419112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Lucida Casual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Text Box 39"/>
          <p:cNvSpPr/>
          <p:nvPr/>
        </p:nvSpPr>
        <p:spPr>
          <a:xfrm>
            <a:off x="457200" y="53341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Casual"/>
              </a:rPr>
              <a:t>We added 2 three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Instead of repeatedly adding, we can multip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27"/>
          <p:cNvGrpSpPr/>
          <p:nvPr/>
        </p:nvGrpSpPr>
        <p:grpSpPr>
          <a:xfrm>
            <a:off x="3124080" y="3352680"/>
            <a:ext cx="1200240" cy="542880"/>
            <a:chOff x="3124080" y="3352680"/>
            <a:chExt cx="1200240" cy="542880"/>
          </a:xfrm>
        </p:grpSpPr>
        <p:graphicFrame>
          <p:nvGraphicFramePr>
            <p:cNvPr id="92" name="Object 5"/>
            <p:cNvGraphicFramePr/>
            <p:nvPr/>
          </p:nvGraphicFramePr>
          <p:xfrm>
            <a:off x="3124080" y="3352680"/>
            <a:ext cx="59040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6"/>
            <p:cNvGraphicFramePr/>
            <p:nvPr/>
          </p:nvGraphicFramePr>
          <p:xfrm>
            <a:off x="3733560" y="3352680"/>
            <a:ext cx="59076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56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" name="Text Box 7"/>
          <p:cNvSpPr/>
          <p:nvPr/>
        </p:nvSpPr>
        <p:spPr>
          <a:xfrm>
            <a:off x="1066680" y="4267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28"/>
          <p:cNvGrpSpPr/>
          <p:nvPr/>
        </p:nvGrpSpPr>
        <p:grpSpPr>
          <a:xfrm>
            <a:off x="5029200" y="3352680"/>
            <a:ext cx="1199880" cy="542880"/>
            <a:chOff x="5029200" y="3352680"/>
            <a:chExt cx="1199880" cy="542880"/>
          </a:xfrm>
        </p:grpSpPr>
        <p:graphicFrame>
          <p:nvGraphicFramePr>
            <p:cNvPr id="98" name="Object 9"/>
            <p:cNvGraphicFramePr/>
            <p:nvPr/>
          </p:nvGraphicFramePr>
          <p:xfrm>
            <a:off x="5029200" y="3352680"/>
            <a:ext cx="59040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10"/>
            <p:cNvGraphicFramePr/>
            <p:nvPr/>
          </p:nvGraphicFramePr>
          <p:xfrm>
            <a:off x="5638680" y="335268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Group 29"/>
          <p:cNvGrpSpPr/>
          <p:nvPr/>
        </p:nvGrpSpPr>
        <p:grpSpPr>
          <a:xfrm>
            <a:off x="6858000" y="3352680"/>
            <a:ext cx="1200240" cy="542880"/>
            <a:chOff x="6858000" y="3352680"/>
            <a:chExt cx="1200240" cy="542880"/>
          </a:xfrm>
        </p:grpSpPr>
        <p:graphicFrame>
          <p:nvGraphicFramePr>
            <p:cNvPr id="103" name="Object 14"/>
            <p:cNvGraphicFramePr/>
            <p:nvPr/>
          </p:nvGraphicFramePr>
          <p:xfrm>
            <a:off x="6858000" y="3352680"/>
            <a:ext cx="59040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80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5"/>
            <p:cNvGraphicFramePr/>
            <p:nvPr/>
          </p:nvGraphicFramePr>
          <p:xfrm>
            <a:off x="7467480" y="3352680"/>
            <a:ext cx="59076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46748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Group 34"/>
          <p:cNvGrpSpPr/>
          <p:nvPr/>
        </p:nvGrpSpPr>
        <p:grpSpPr>
          <a:xfrm>
            <a:off x="3733920" y="4267080"/>
            <a:ext cx="3638520" cy="542880"/>
            <a:chOff x="3733920" y="4267080"/>
            <a:chExt cx="3638520" cy="542880"/>
          </a:xfrm>
        </p:grpSpPr>
        <p:graphicFrame>
          <p:nvGraphicFramePr>
            <p:cNvPr id="108" name="Object 20"/>
            <p:cNvGraphicFramePr/>
            <p:nvPr/>
          </p:nvGraphicFramePr>
          <p:xfrm>
            <a:off x="3733920" y="4267080"/>
            <a:ext cx="59040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9" name="Object 2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3392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Object 21"/>
            <p:cNvGraphicFramePr/>
            <p:nvPr/>
          </p:nvGraphicFramePr>
          <p:xfrm>
            <a:off x="4343400" y="4267080"/>
            <a:ext cx="5904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1" name="Object 2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3434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22"/>
            <p:cNvGraphicFramePr/>
            <p:nvPr/>
          </p:nvGraphicFramePr>
          <p:xfrm>
            <a:off x="5562720" y="4267080"/>
            <a:ext cx="590400" cy="542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3" name="Object 2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56272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Object 23"/>
            <p:cNvGraphicFramePr/>
            <p:nvPr/>
          </p:nvGraphicFramePr>
          <p:xfrm>
            <a:off x="6172200" y="4267080"/>
            <a:ext cx="590400" cy="542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5" name="Object 2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722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24"/>
            <p:cNvGraphicFramePr/>
            <p:nvPr/>
          </p:nvGraphicFramePr>
          <p:xfrm>
            <a:off x="4952880" y="4267080"/>
            <a:ext cx="590760" cy="542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17" name="Object 2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95288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Object 25"/>
            <p:cNvGraphicFramePr/>
            <p:nvPr/>
          </p:nvGraphicFramePr>
          <p:xfrm>
            <a:off x="6781680" y="4267080"/>
            <a:ext cx="59076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19" name="Object 2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8168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Line 30"/>
          <p:cNvSpPr/>
          <p:nvPr/>
        </p:nvSpPr>
        <p:spPr>
          <a:xfrm>
            <a:off x="914400" y="4114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144792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1562400" y="259092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2095920" y="4114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3 groups of 2 equals 6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124080" y="3352680"/>
            <a:ext cx="1200240" cy="542880"/>
            <a:chOff x="3124080" y="3352680"/>
            <a:chExt cx="1200240" cy="542880"/>
          </a:xfrm>
        </p:grpSpPr>
        <p:graphicFrame>
          <p:nvGraphicFramePr>
            <p:cNvPr id="126" name="Object 4"/>
            <p:cNvGraphicFramePr/>
            <p:nvPr/>
          </p:nvGraphicFramePr>
          <p:xfrm>
            <a:off x="3124080" y="3352680"/>
            <a:ext cx="59040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5"/>
            <p:cNvGraphicFramePr/>
            <p:nvPr/>
          </p:nvGraphicFramePr>
          <p:xfrm>
            <a:off x="3733560" y="3352680"/>
            <a:ext cx="59076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56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" name="Text Box 6"/>
          <p:cNvSpPr/>
          <p:nvPr/>
        </p:nvSpPr>
        <p:spPr>
          <a:xfrm>
            <a:off x="1066680" y="4267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5029200" y="3352680"/>
            <a:ext cx="1199880" cy="542880"/>
            <a:chOff x="5029200" y="3352680"/>
            <a:chExt cx="1199880" cy="542880"/>
          </a:xfrm>
        </p:grpSpPr>
        <p:graphicFrame>
          <p:nvGraphicFramePr>
            <p:cNvPr id="132" name="Object 8"/>
            <p:cNvGraphicFramePr/>
            <p:nvPr/>
          </p:nvGraphicFramePr>
          <p:xfrm>
            <a:off x="5029200" y="3352680"/>
            <a:ext cx="59040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9"/>
            <p:cNvGraphicFramePr/>
            <p:nvPr/>
          </p:nvGraphicFramePr>
          <p:xfrm>
            <a:off x="5638680" y="335268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" name="Group 10"/>
          <p:cNvGrpSpPr/>
          <p:nvPr/>
        </p:nvGrpSpPr>
        <p:grpSpPr>
          <a:xfrm>
            <a:off x="6858000" y="3352680"/>
            <a:ext cx="1200240" cy="542880"/>
            <a:chOff x="6858000" y="3352680"/>
            <a:chExt cx="1200240" cy="542880"/>
          </a:xfrm>
        </p:grpSpPr>
        <p:graphicFrame>
          <p:nvGraphicFramePr>
            <p:cNvPr id="137" name="Object 11"/>
            <p:cNvGraphicFramePr/>
            <p:nvPr/>
          </p:nvGraphicFramePr>
          <p:xfrm>
            <a:off x="6858000" y="3352680"/>
            <a:ext cx="59040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80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12"/>
            <p:cNvGraphicFramePr/>
            <p:nvPr/>
          </p:nvGraphicFramePr>
          <p:xfrm>
            <a:off x="7467480" y="3352680"/>
            <a:ext cx="59076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46748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Group 23"/>
          <p:cNvGrpSpPr/>
          <p:nvPr/>
        </p:nvGrpSpPr>
        <p:grpSpPr>
          <a:xfrm>
            <a:off x="3733920" y="4267080"/>
            <a:ext cx="3638520" cy="542880"/>
            <a:chOff x="3733920" y="4267080"/>
            <a:chExt cx="3638520" cy="542880"/>
          </a:xfrm>
        </p:grpSpPr>
        <p:graphicFrame>
          <p:nvGraphicFramePr>
            <p:cNvPr id="142" name="Object 13"/>
            <p:cNvGraphicFramePr/>
            <p:nvPr/>
          </p:nvGraphicFramePr>
          <p:xfrm>
            <a:off x="3733920" y="4267080"/>
            <a:ext cx="59040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3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3392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Object 14"/>
            <p:cNvGraphicFramePr/>
            <p:nvPr/>
          </p:nvGraphicFramePr>
          <p:xfrm>
            <a:off x="4343400" y="4267080"/>
            <a:ext cx="5904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5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3434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Object 15"/>
            <p:cNvGraphicFramePr/>
            <p:nvPr/>
          </p:nvGraphicFramePr>
          <p:xfrm>
            <a:off x="5562720" y="4267080"/>
            <a:ext cx="590400" cy="542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7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56272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Object 16"/>
            <p:cNvGraphicFramePr/>
            <p:nvPr/>
          </p:nvGraphicFramePr>
          <p:xfrm>
            <a:off x="6172200" y="4267080"/>
            <a:ext cx="590400" cy="542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9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722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7"/>
            <p:cNvGraphicFramePr/>
            <p:nvPr/>
          </p:nvGraphicFramePr>
          <p:xfrm>
            <a:off x="4952880" y="4267080"/>
            <a:ext cx="590760" cy="542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1" name="Object 1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95288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18"/>
            <p:cNvGraphicFramePr/>
            <p:nvPr/>
          </p:nvGraphicFramePr>
          <p:xfrm>
            <a:off x="6781680" y="4267080"/>
            <a:ext cx="59076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3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8168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4" name="Line 19"/>
          <p:cNvSpPr/>
          <p:nvPr/>
        </p:nvSpPr>
        <p:spPr>
          <a:xfrm>
            <a:off x="914400" y="4114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144792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562400" y="259092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2095920" y="4114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2 groups of 3 equals 6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914400" y="4114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144792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1562400" y="259092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2095920" y="4114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3"/>
          <p:cNvGrpSpPr/>
          <p:nvPr/>
        </p:nvGrpSpPr>
        <p:grpSpPr>
          <a:xfrm>
            <a:off x="3200400" y="4267080"/>
            <a:ext cx="3638520" cy="542880"/>
            <a:chOff x="3200400" y="4267080"/>
            <a:chExt cx="3638520" cy="542880"/>
          </a:xfrm>
        </p:grpSpPr>
        <p:graphicFrame>
          <p:nvGraphicFramePr>
            <p:cNvPr id="164" name="Object 14"/>
            <p:cNvGraphicFramePr/>
            <p:nvPr/>
          </p:nvGraphicFramePr>
          <p:xfrm>
            <a:off x="3200400" y="4267080"/>
            <a:ext cx="59040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15"/>
            <p:cNvGraphicFramePr/>
            <p:nvPr/>
          </p:nvGraphicFramePr>
          <p:xfrm>
            <a:off x="3809880" y="4267080"/>
            <a:ext cx="59040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988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16"/>
            <p:cNvGraphicFramePr/>
            <p:nvPr/>
          </p:nvGraphicFramePr>
          <p:xfrm>
            <a:off x="5029200" y="4267080"/>
            <a:ext cx="59040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17"/>
            <p:cNvGraphicFramePr/>
            <p:nvPr/>
          </p:nvGraphicFramePr>
          <p:xfrm>
            <a:off x="5638680" y="426708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Object 18"/>
            <p:cNvGraphicFramePr/>
            <p:nvPr/>
          </p:nvGraphicFramePr>
          <p:xfrm>
            <a:off x="4419360" y="4267080"/>
            <a:ext cx="59076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1936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Object 19"/>
            <p:cNvGraphicFramePr/>
            <p:nvPr/>
          </p:nvGraphicFramePr>
          <p:xfrm>
            <a:off x="6248160" y="4267080"/>
            <a:ext cx="59076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5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16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Group 28"/>
          <p:cNvGrpSpPr/>
          <p:nvPr/>
        </p:nvGrpSpPr>
        <p:grpSpPr>
          <a:xfrm>
            <a:off x="3124080" y="2743200"/>
            <a:ext cx="1200240" cy="1152360"/>
            <a:chOff x="3124080" y="2743200"/>
            <a:chExt cx="1200240" cy="1152360"/>
          </a:xfrm>
        </p:grpSpPr>
        <p:graphicFrame>
          <p:nvGraphicFramePr>
            <p:cNvPr id="177" name="Object 4"/>
            <p:cNvGraphicFramePr/>
            <p:nvPr/>
          </p:nvGraphicFramePr>
          <p:xfrm>
            <a:off x="3124080" y="3352680"/>
            <a:ext cx="5907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8" name="Object 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2408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Object 5"/>
            <p:cNvGraphicFramePr/>
            <p:nvPr/>
          </p:nvGraphicFramePr>
          <p:xfrm>
            <a:off x="3733920" y="3352680"/>
            <a:ext cx="5904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0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73392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Object 24"/>
            <p:cNvGraphicFramePr/>
            <p:nvPr/>
          </p:nvGraphicFramePr>
          <p:xfrm>
            <a:off x="3124080" y="2743200"/>
            <a:ext cx="590760" cy="542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2" name="Object 2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124080" y="27432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3" name="Group 27"/>
          <p:cNvGrpSpPr/>
          <p:nvPr/>
        </p:nvGrpSpPr>
        <p:grpSpPr>
          <a:xfrm>
            <a:off x="5029200" y="2743200"/>
            <a:ext cx="1199880" cy="1152360"/>
            <a:chOff x="5029200" y="2743200"/>
            <a:chExt cx="1199880" cy="1152360"/>
          </a:xfrm>
        </p:grpSpPr>
        <p:grpSp>
          <p:nvGrpSpPr>
            <p:cNvPr id="184" name="Group 7"/>
            <p:cNvGrpSpPr/>
            <p:nvPr/>
          </p:nvGrpSpPr>
          <p:grpSpPr>
            <a:xfrm>
              <a:off x="5029200" y="3352680"/>
              <a:ext cx="1199880" cy="542880"/>
              <a:chOff x="5029200" y="3352680"/>
              <a:chExt cx="1199880" cy="542880"/>
            </a:xfrm>
          </p:grpSpPr>
          <p:graphicFrame>
            <p:nvGraphicFramePr>
              <p:cNvPr id="185" name="Object 8"/>
              <p:cNvGraphicFramePr/>
              <p:nvPr/>
            </p:nvGraphicFramePr>
            <p:xfrm>
              <a:off x="5029200" y="3352680"/>
              <a:ext cx="590400" cy="542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86" name="Object 8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029200" y="33526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7" name="Object 9"/>
              <p:cNvGraphicFramePr/>
              <p:nvPr/>
            </p:nvGraphicFramePr>
            <p:xfrm>
              <a:off x="5638680" y="3352680"/>
              <a:ext cx="590400" cy="542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88" name="Object 9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638680" y="33526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9" name="Object 25"/>
            <p:cNvGraphicFramePr/>
            <p:nvPr/>
          </p:nvGraphicFramePr>
          <p:xfrm>
            <a:off x="5029200" y="2743200"/>
            <a:ext cx="59040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90" name="Object 2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029200" y="27432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3 groups of 4 equals 12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80880" y="44197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609480" y="42670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762120" y="34290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876600" y="274320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990000" y="42670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5"/>
          <p:cNvGrpSpPr/>
          <p:nvPr/>
        </p:nvGrpSpPr>
        <p:grpSpPr>
          <a:xfrm>
            <a:off x="4038480" y="2971800"/>
            <a:ext cx="1200240" cy="1076400"/>
            <a:chOff x="4038480" y="2971800"/>
            <a:chExt cx="1200240" cy="1076400"/>
          </a:xfrm>
        </p:grpSpPr>
        <p:grpSp>
          <p:nvGrpSpPr>
            <p:cNvPr id="198" name="Group 7"/>
            <p:cNvGrpSpPr/>
            <p:nvPr/>
          </p:nvGrpSpPr>
          <p:grpSpPr>
            <a:xfrm>
              <a:off x="4038480" y="3505320"/>
              <a:ext cx="1199880" cy="542880"/>
              <a:chOff x="4038480" y="3505320"/>
              <a:chExt cx="1199880" cy="542880"/>
            </a:xfrm>
          </p:grpSpPr>
          <p:graphicFrame>
            <p:nvGraphicFramePr>
              <p:cNvPr id="199" name="Object 8"/>
              <p:cNvGraphicFramePr/>
              <p:nvPr/>
            </p:nvGraphicFramePr>
            <p:xfrm>
              <a:off x="4038480" y="3505320"/>
              <a:ext cx="590400" cy="542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0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0384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1" name="Object 9"/>
              <p:cNvGraphicFramePr/>
              <p:nvPr/>
            </p:nvGraphicFramePr>
            <p:xfrm>
              <a:off x="4647960" y="3505320"/>
              <a:ext cx="590400" cy="542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2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64796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3" name="Object 24"/>
            <p:cNvGraphicFramePr/>
            <p:nvPr/>
          </p:nvGraphicFramePr>
          <p:xfrm>
            <a:off x="4038480" y="2971800"/>
            <a:ext cx="59076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8480" y="29718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27"/>
            <p:cNvGraphicFramePr/>
            <p:nvPr/>
          </p:nvGraphicFramePr>
          <p:xfrm>
            <a:off x="4648320" y="297180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6" name="Object 2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7" name="Group 46"/>
          <p:cNvGrpSpPr/>
          <p:nvPr/>
        </p:nvGrpSpPr>
        <p:grpSpPr>
          <a:xfrm>
            <a:off x="5638680" y="2971800"/>
            <a:ext cx="1200240" cy="1076400"/>
            <a:chOff x="5638680" y="2971800"/>
            <a:chExt cx="1200240" cy="1076400"/>
          </a:xfrm>
        </p:grpSpPr>
        <p:grpSp>
          <p:nvGrpSpPr>
            <p:cNvPr id="208" name="Group 10"/>
            <p:cNvGrpSpPr/>
            <p:nvPr/>
          </p:nvGrpSpPr>
          <p:grpSpPr>
            <a:xfrm>
              <a:off x="5638680" y="3505320"/>
              <a:ext cx="1200240" cy="542880"/>
              <a:chOff x="5638680" y="3505320"/>
              <a:chExt cx="1200240" cy="542880"/>
            </a:xfrm>
          </p:grpSpPr>
          <p:graphicFrame>
            <p:nvGraphicFramePr>
              <p:cNvPr id="209" name="Object 11"/>
              <p:cNvGraphicFramePr/>
              <p:nvPr/>
            </p:nvGraphicFramePr>
            <p:xfrm>
              <a:off x="5638680" y="3505320"/>
              <a:ext cx="590400" cy="542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10" name="Object 1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386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1" name="Object 12"/>
              <p:cNvGraphicFramePr/>
              <p:nvPr/>
            </p:nvGraphicFramePr>
            <p:xfrm>
              <a:off x="6248160" y="3505320"/>
              <a:ext cx="590760" cy="5428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12" name="Object 1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248160" y="35053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13" name="Object 25"/>
            <p:cNvGraphicFramePr/>
            <p:nvPr/>
          </p:nvGraphicFramePr>
          <p:xfrm>
            <a:off x="5638680" y="2971800"/>
            <a:ext cx="5907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4" name="Object 2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38680" y="29718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Object 28"/>
            <p:cNvGraphicFramePr/>
            <p:nvPr/>
          </p:nvGraphicFramePr>
          <p:xfrm>
            <a:off x="6248520" y="2971800"/>
            <a:ext cx="5904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6" name="Object 2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4852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7" name="Group 47"/>
          <p:cNvGrpSpPr/>
          <p:nvPr/>
        </p:nvGrpSpPr>
        <p:grpSpPr>
          <a:xfrm>
            <a:off x="2438280" y="2971800"/>
            <a:ext cx="1200240" cy="1076400"/>
            <a:chOff x="2438280" y="2971800"/>
            <a:chExt cx="1200240" cy="1076400"/>
          </a:xfrm>
        </p:grpSpPr>
        <p:grpSp>
          <p:nvGrpSpPr>
            <p:cNvPr id="218" name="Group 31"/>
            <p:cNvGrpSpPr/>
            <p:nvPr/>
          </p:nvGrpSpPr>
          <p:grpSpPr>
            <a:xfrm>
              <a:off x="2438280" y="2971800"/>
              <a:ext cx="1200240" cy="1076400"/>
              <a:chOff x="2438280" y="2971800"/>
              <a:chExt cx="1200240" cy="1076400"/>
            </a:xfrm>
          </p:grpSpPr>
          <p:graphicFrame>
            <p:nvGraphicFramePr>
              <p:cNvPr id="219" name="Object 4"/>
              <p:cNvGraphicFramePr/>
              <p:nvPr/>
            </p:nvGraphicFramePr>
            <p:xfrm>
              <a:off x="2438280" y="3505320"/>
              <a:ext cx="590760" cy="5428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20" name="Object 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438280" y="35053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1" name="Object 5"/>
              <p:cNvGraphicFramePr/>
              <p:nvPr/>
            </p:nvGraphicFramePr>
            <p:xfrm>
              <a:off x="3048120" y="3505320"/>
              <a:ext cx="590400" cy="542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22" name="Object 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04812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3" name="Object 23"/>
              <p:cNvGraphicFramePr/>
              <p:nvPr/>
            </p:nvGraphicFramePr>
            <p:xfrm>
              <a:off x="2438280" y="2971800"/>
              <a:ext cx="590760" cy="542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24" name="Object 2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438280" y="297180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25" name="Object 29"/>
            <p:cNvGraphicFramePr/>
            <p:nvPr/>
          </p:nvGraphicFramePr>
          <p:xfrm>
            <a:off x="3048120" y="2971800"/>
            <a:ext cx="59040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26" name="Object 2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04812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44"/>
          <p:cNvGrpSpPr/>
          <p:nvPr/>
        </p:nvGrpSpPr>
        <p:grpSpPr>
          <a:xfrm>
            <a:off x="2819520" y="4419720"/>
            <a:ext cx="3638520" cy="1076040"/>
            <a:chOff x="2819520" y="4419720"/>
            <a:chExt cx="3638520" cy="1076040"/>
          </a:xfrm>
        </p:grpSpPr>
        <p:grpSp>
          <p:nvGrpSpPr>
            <p:cNvPr id="228" name="Group 36"/>
            <p:cNvGrpSpPr/>
            <p:nvPr/>
          </p:nvGrpSpPr>
          <p:grpSpPr>
            <a:xfrm>
              <a:off x="2819520" y="4419720"/>
              <a:ext cx="3638520" cy="542880"/>
              <a:chOff x="2819520" y="4419720"/>
              <a:chExt cx="3638520" cy="542880"/>
            </a:xfrm>
          </p:grpSpPr>
          <p:graphicFrame>
            <p:nvGraphicFramePr>
              <p:cNvPr id="229" name="Object 13"/>
              <p:cNvGraphicFramePr/>
              <p:nvPr/>
            </p:nvGraphicFramePr>
            <p:xfrm>
              <a:off x="2819520" y="4419720"/>
              <a:ext cx="590400" cy="5428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30" name="Object 13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281952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1" name="Object 14"/>
              <p:cNvGraphicFramePr/>
              <p:nvPr/>
            </p:nvGraphicFramePr>
            <p:xfrm>
              <a:off x="3429000" y="4419720"/>
              <a:ext cx="590400" cy="5428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32" name="Object 14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42900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3" name="Object 15"/>
              <p:cNvGraphicFramePr/>
              <p:nvPr/>
            </p:nvGraphicFramePr>
            <p:xfrm>
              <a:off x="4648320" y="4419720"/>
              <a:ext cx="590400" cy="5428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234" name="Object 15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64832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5" name="Object 16"/>
              <p:cNvGraphicFramePr/>
              <p:nvPr/>
            </p:nvGraphicFramePr>
            <p:xfrm>
              <a:off x="5257800" y="4419720"/>
              <a:ext cx="590400" cy="54288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236" name="Object 16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525780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7" name="Object 17"/>
              <p:cNvGraphicFramePr/>
              <p:nvPr/>
            </p:nvGraphicFramePr>
            <p:xfrm>
              <a:off x="4038480" y="4419720"/>
              <a:ext cx="590760" cy="54288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238" name="Object 17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4038480" y="4419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9" name="Object 18"/>
              <p:cNvGraphicFramePr/>
              <p:nvPr/>
            </p:nvGraphicFramePr>
            <p:xfrm>
              <a:off x="5867280" y="4419720"/>
              <a:ext cx="590760" cy="5428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240" name="Object 18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5867280" y="4419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41" name="Group 37"/>
            <p:cNvGrpSpPr/>
            <p:nvPr/>
          </p:nvGrpSpPr>
          <p:grpSpPr>
            <a:xfrm>
              <a:off x="2819520" y="4952880"/>
              <a:ext cx="3638520" cy="542880"/>
              <a:chOff x="2819520" y="4952880"/>
              <a:chExt cx="3638520" cy="542880"/>
            </a:xfrm>
          </p:grpSpPr>
          <p:graphicFrame>
            <p:nvGraphicFramePr>
              <p:cNvPr id="242" name="Object 38"/>
              <p:cNvGraphicFramePr/>
              <p:nvPr/>
            </p:nvGraphicFramePr>
            <p:xfrm>
              <a:off x="2819520" y="4952880"/>
              <a:ext cx="590400" cy="54288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243" name="Object 38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281952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4" name="Object 39"/>
              <p:cNvGraphicFramePr/>
              <p:nvPr/>
            </p:nvGraphicFramePr>
            <p:xfrm>
              <a:off x="3429000" y="4952880"/>
              <a:ext cx="590400" cy="54288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245" name="Object 39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342900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6" name="Object 40"/>
              <p:cNvGraphicFramePr/>
              <p:nvPr/>
            </p:nvGraphicFramePr>
            <p:xfrm>
              <a:off x="4648320" y="4952880"/>
              <a:ext cx="590400" cy="54288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247" name="Object 40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464832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8" name="Object 41"/>
              <p:cNvGraphicFramePr/>
              <p:nvPr/>
            </p:nvGraphicFramePr>
            <p:xfrm>
              <a:off x="5257800" y="4952880"/>
              <a:ext cx="590400" cy="542880"/>
            </p:xfrm>
            <a:graphic>
              <a:graphicData uri="http://schemas.openxmlformats.org/presentationml/2006/ole">
                <p:oleObj r:id="rId43" spid="">
                  <p:embed/>
                  <p:pic>
                    <p:nvPicPr>
                      <p:cNvPr id="249" name="Object 41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525780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0" name="Object 42"/>
              <p:cNvGraphicFramePr/>
              <p:nvPr/>
            </p:nvGraphicFramePr>
            <p:xfrm>
              <a:off x="4038480" y="4952880"/>
              <a:ext cx="590760" cy="5428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251" name="Object 42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4038480" y="49528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2" name="Object 43"/>
              <p:cNvGraphicFramePr/>
              <p:nvPr/>
            </p:nvGraphicFramePr>
            <p:xfrm>
              <a:off x="5867280" y="4952880"/>
              <a:ext cx="590760" cy="5428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253" name="Object 43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5867280" y="49528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4 groups of 3 equals 12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0880" y="44197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609480" y="42670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62120" y="34290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876600" y="274320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990000" y="42670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8"/>
          <p:cNvGrpSpPr/>
          <p:nvPr/>
        </p:nvGrpSpPr>
        <p:grpSpPr>
          <a:xfrm>
            <a:off x="2438280" y="2971800"/>
            <a:ext cx="1200240" cy="1076400"/>
            <a:chOff x="2438280" y="2971800"/>
            <a:chExt cx="1200240" cy="1076400"/>
          </a:xfrm>
        </p:grpSpPr>
        <p:graphicFrame>
          <p:nvGraphicFramePr>
            <p:cNvPr id="261" name="Object 9"/>
            <p:cNvGraphicFramePr/>
            <p:nvPr/>
          </p:nvGraphicFramePr>
          <p:xfrm>
            <a:off x="2438280" y="3505320"/>
            <a:ext cx="59076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350532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Object 10"/>
            <p:cNvGraphicFramePr/>
            <p:nvPr/>
          </p:nvGraphicFramePr>
          <p:xfrm>
            <a:off x="3048120" y="3505320"/>
            <a:ext cx="59040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1"/>
            <p:cNvGraphicFramePr/>
            <p:nvPr/>
          </p:nvGraphicFramePr>
          <p:xfrm>
            <a:off x="2438280" y="2971800"/>
            <a:ext cx="59076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38280" y="29718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7" name="Group 12"/>
          <p:cNvGrpSpPr/>
          <p:nvPr/>
        </p:nvGrpSpPr>
        <p:grpSpPr>
          <a:xfrm>
            <a:off x="4038480" y="2971800"/>
            <a:ext cx="1199880" cy="1076400"/>
            <a:chOff x="4038480" y="2971800"/>
            <a:chExt cx="1199880" cy="1076400"/>
          </a:xfrm>
        </p:grpSpPr>
        <p:grpSp>
          <p:nvGrpSpPr>
            <p:cNvPr id="268" name="Group 13"/>
            <p:cNvGrpSpPr/>
            <p:nvPr/>
          </p:nvGrpSpPr>
          <p:grpSpPr>
            <a:xfrm>
              <a:off x="4038480" y="3505320"/>
              <a:ext cx="1199880" cy="542880"/>
              <a:chOff x="4038480" y="3505320"/>
              <a:chExt cx="1199880" cy="542880"/>
            </a:xfrm>
          </p:grpSpPr>
          <p:graphicFrame>
            <p:nvGraphicFramePr>
              <p:cNvPr id="269" name="Object 14"/>
              <p:cNvGraphicFramePr/>
              <p:nvPr/>
            </p:nvGraphicFramePr>
            <p:xfrm>
              <a:off x="4038480" y="3505320"/>
              <a:ext cx="590400" cy="542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0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384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Object 15"/>
              <p:cNvGraphicFramePr/>
              <p:nvPr/>
            </p:nvGraphicFramePr>
            <p:xfrm>
              <a:off x="4647960" y="3505320"/>
              <a:ext cx="590400" cy="542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72" name="Object 1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796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3" name="Object 16"/>
            <p:cNvGraphicFramePr/>
            <p:nvPr/>
          </p:nvGraphicFramePr>
          <p:xfrm>
            <a:off x="4038480" y="2971800"/>
            <a:ext cx="59040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4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5" name="Group 17"/>
          <p:cNvGrpSpPr/>
          <p:nvPr/>
        </p:nvGrpSpPr>
        <p:grpSpPr>
          <a:xfrm>
            <a:off x="5638680" y="2971800"/>
            <a:ext cx="1200240" cy="1076400"/>
            <a:chOff x="5638680" y="2971800"/>
            <a:chExt cx="1200240" cy="1076400"/>
          </a:xfrm>
        </p:grpSpPr>
        <p:grpSp>
          <p:nvGrpSpPr>
            <p:cNvPr id="276" name="Group 18"/>
            <p:cNvGrpSpPr/>
            <p:nvPr/>
          </p:nvGrpSpPr>
          <p:grpSpPr>
            <a:xfrm>
              <a:off x="5638680" y="3505320"/>
              <a:ext cx="1200240" cy="542880"/>
              <a:chOff x="5638680" y="3505320"/>
              <a:chExt cx="1200240" cy="542880"/>
            </a:xfrm>
          </p:grpSpPr>
          <p:graphicFrame>
            <p:nvGraphicFramePr>
              <p:cNvPr id="277" name="Object 19"/>
              <p:cNvGraphicFramePr/>
              <p:nvPr/>
            </p:nvGraphicFramePr>
            <p:xfrm>
              <a:off x="5638680" y="3505320"/>
              <a:ext cx="590400" cy="5428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8" name="Object 19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6386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9" name="Object 20"/>
              <p:cNvGraphicFramePr/>
              <p:nvPr/>
            </p:nvGraphicFramePr>
            <p:xfrm>
              <a:off x="6248160" y="3505320"/>
              <a:ext cx="590760" cy="5428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80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248160" y="35053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1" name="Object 21"/>
            <p:cNvGraphicFramePr/>
            <p:nvPr/>
          </p:nvGraphicFramePr>
          <p:xfrm>
            <a:off x="5638680" y="2971800"/>
            <a:ext cx="590400" cy="542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2" name="Object 2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3868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3" name="Group 22"/>
          <p:cNvGrpSpPr/>
          <p:nvPr/>
        </p:nvGrpSpPr>
        <p:grpSpPr>
          <a:xfrm>
            <a:off x="7238880" y="2971800"/>
            <a:ext cx="1200240" cy="1076400"/>
            <a:chOff x="7238880" y="2971800"/>
            <a:chExt cx="1200240" cy="1076400"/>
          </a:xfrm>
        </p:grpSpPr>
        <p:grpSp>
          <p:nvGrpSpPr>
            <p:cNvPr id="284" name="Group 23"/>
            <p:cNvGrpSpPr/>
            <p:nvPr/>
          </p:nvGrpSpPr>
          <p:grpSpPr>
            <a:xfrm>
              <a:off x="7238880" y="3505320"/>
              <a:ext cx="1200240" cy="542880"/>
              <a:chOff x="7238880" y="3505320"/>
              <a:chExt cx="1200240" cy="542880"/>
            </a:xfrm>
          </p:grpSpPr>
          <p:graphicFrame>
            <p:nvGraphicFramePr>
              <p:cNvPr id="285" name="Object 24"/>
              <p:cNvGraphicFramePr/>
              <p:nvPr/>
            </p:nvGraphicFramePr>
            <p:xfrm>
              <a:off x="7238880" y="3505320"/>
              <a:ext cx="590400" cy="542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86" name="Object 24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2388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7" name="Object 25"/>
              <p:cNvGraphicFramePr/>
              <p:nvPr/>
            </p:nvGraphicFramePr>
            <p:xfrm>
              <a:off x="7848360" y="3505320"/>
              <a:ext cx="590760" cy="542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88" name="Object 25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848360" y="35053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9" name="Object 26"/>
            <p:cNvGraphicFramePr/>
            <p:nvPr/>
          </p:nvGraphicFramePr>
          <p:xfrm>
            <a:off x="7238880" y="2971800"/>
            <a:ext cx="59076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238880" y="29718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27"/>
          <p:cNvGrpSpPr/>
          <p:nvPr/>
        </p:nvGrpSpPr>
        <p:grpSpPr>
          <a:xfrm>
            <a:off x="3048120" y="4419720"/>
            <a:ext cx="3638520" cy="1076040"/>
            <a:chOff x="3048120" y="4419720"/>
            <a:chExt cx="3638520" cy="1076040"/>
          </a:xfrm>
        </p:grpSpPr>
        <p:grpSp>
          <p:nvGrpSpPr>
            <p:cNvPr id="292" name="Group 28"/>
            <p:cNvGrpSpPr/>
            <p:nvPr/>
          </p:nvGrpSpPr>
          <p:grpSpPr>
            <a:xfrm>
              <a:off x="3048120" y="4419720"/>
              <a:ext cx="3638520" cy="542880"/>
              <a:chOff x="3048120" y="4419720"/>
              <a:chExt cx="3638520" cy="542880"/>
            </a:xfrm>
          </p:grpSpPr>
          <p:graphicFrame>
            <p:nvGraphicFramePr>
              <p:cNvPr id="293" name="Object 29"/>
              <p:cNvGraphicFramePr/>
              <p:nvPr/>
            </p:nvGraphicFramePr>
            <p:xfrm>
              <a:off x="3048120" y="4419720"/>
              <a:ext cx="590400" cy="5428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94" name="Object 29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304812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5" name="Object 30"/>
              <p:cNvGraphicFramePr/>
              <p:nvPr/>
            </p:nvGraphicFramePr>
            <p:xfrm>
              <a:off x="3657600" y="4419720"/>
              <a:ext cx="590400" cy="5428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96" name="Object 30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65760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7" name="Object 31"/>
              <p:cNvGraphicFramePr/>
              <p:nvPr/>
            </p:nvGraphicFramePr>
            <p:xfrm>
              <a:off x="4876920" y="4419720"/>
              <a:ext cx="590400" cy="5428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298" name="Object 31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87692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9" name="Object 32"/>
              <p:cNvGraphicFramePr/>
              <p:nvPr/>
            </p:nvGraphicFramePr>
            <p:xfrm>
              <a:off x="5486400" y="4419720"/>
              <a:ext cx="590400" cy="54288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300" name="Object 32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548640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1" name="Object 33"/>
              <p:cNvGraphicFramePr/>
              <p:nvPr/>
            </p:nvGraphicFramePr>
            <p:xfrm>
              <a:off x="4267080" y="4419720"/>
              <a:ext cx="590760" cy="54288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302" name="Object 33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4267080" y="4419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3" name="Object 34"/>
              <p:cNvGraphicFramePr/>
              <p:nvPr/>
            </p:nvGraphicFramePr>
            <p:xfrm>
              <a:off x="6095880" y="4419720"/>
              <a:ext cx="590760" cy="5428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04" name="Object 34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6095880" y="4419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05" name="Group 35"/>
            <p:cNvGrpSpPr/>
            <p:nvPr/>
          </p:nvGrpSpPr>
          <p:grpSpPr>
            <a:xfrm>
              <a:off x="3048120" y="4952880"/>
              <a:ext cx="3638520" cy="542880"/>
              <a:chOff x="3048120" y="4952880"/>
              <a:chExt cx="3638520" cy="542880"/>
            </a:xfrm>
          </p:grpSpPr>
          <p:graphicFrame>
            <p:nvGraphicFramePr>
              <p:cNvPr id="306" name="Object 36"/>
              <p:cNvGraphicFramePr/>
              <p:nvPr/>
            </p:nvGraphicFramePr>
            <p:xfrm>
              <a:off x="3048120" y="4952880"/>
              <a:ext cx="590400" cy="54288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307" name="Object 36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304812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8" name="Object 37"/>
              <p:cNvGraphicFramePr/>
              <p:nvPr/>
            </p:nvGraphicFramePr>
            <p:xfrm>
              <a:off x="3657600" y="4952880"/>
              <a:ext cx="590400" cy="54288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309" name="Object 37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365760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0" name="Object 38"/>
              <p:cNvGraphicFramePr/>
              <p:nvPr/>
            </p:nvGraphicFramePr>
            <p:xfrm>
              <a:off x="4876920" y="4952880"/>
              <a:ext cx="590400" cy="54288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311" name="Object 38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487692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2" name="Object 39"/>
              <p:cNvGraphicFramePr/>
              <p:nvPr/>
            </p:nvGraphicFramePr>
            <p:xfrm>
              <a:off x="5486400" y="4952880"/>
              <a:ext cx="590400" cy="542880"/>
            </p:xfrm>
            <a:graphic>
              <a:graphicData uri="http://schemas.openxmlformats.org/presentationml/2006/ole">
                <p:oleObj r:id="rId43" spid="">
                  <p:embed/>
                  <p:pic>
                    <p:nvPicPr>
                      <p:cNvPr id="313" name="Object 39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548640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4" name="Object 40"/>
              <p:cNvGraphicFramePr/>
              <p:nvPr/>
            </p:nvGraphicFramePr>
            <p:xfrm>
              <a:off x="4267080" y="4952880"/>
              <a:ext cx="590760" cy="5428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315" name="Object 40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4267080" y="49528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Object 41"/>
              <p:cNvGraphicFramePr/>
              <p:nvPr/>
            </p:nvGraphicFramePr>
            <p:xfrm>
              <a:off x="6095880" y="4952880"/>
              <a:ext cx="590760" cy="5428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317" name="Object 41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095880" y="49528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4"/>
          <p:cNvGrpSpPr/>
          <p:nvPr/>
        </p:nvGrpSpPr>
        <p:grpSpPr>
          <a:xfrm>
            <a:off x="3733920" y="2057400"/>
            <a:ext cx="1199880" cy="1781280"/>
            <a:chOff x="3733920" y="2057400"/>
            <a:chExt cx="1199880" cy="1781280"/>
          </a:xfrm>
        </p:grpSpPr>
        <p:graphicFrame>
          <p:nvGraphicFramePr>
            <p:cNvPr id="319" name="Object 2"/>
            <p:cNvGraphicFramePr/>
            <p:nvPr/>
          </p:nvGraphicFramePr>
          <p:xfrm>
            <a:off x="3733920" y="2666880"/>
            <a:ext cx="59040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266688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1" name="Object 4"/>
            <p:cNvGraphicFramePr/>
            <p:nvPr/>
          </p:nvGraphicFramePr>
          <p:xfrm>
            <a:off x="3733920" y="3276720"/>
            <a:ext cx="590400" cy="56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2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3276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Object 6"/>
            <p:cNvGraphicFramePr/>
            <p:nvPr/>
          </p:nvGraphicFramePr>
          <p:xfrm>
            <a:off x="3733920" y="2057400"/>
            <a:ext cx="590400" cy="56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33920" y="20574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7"/>
            <p:cNvGraphicFramePr/>
            <p:nvPr/>
          </p:nvGraphicFramePr>
          <p:xfrm>
            <a:off x="4343400" y="3276720"/>
            <a:ext cx="590400" cy="56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6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43400" y="3276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8"/>
            <p:cNvGraphicFramePr/>
            <p:nvPr/>
          </p:nvGraphicFramePr>
          <p:xfrm>
            <a:off x="4343400" y="2666880"/>
            <a:ext cx="590400" cy="56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8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43400" y="266688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Object 9"/>
            <p:cNvGraphicFramePr/>
            <p:nvPr/>
          </p:nvGraphicFramePr>
          <p:xfrm>
            <a:off x="4343400" y="2057400"/>
            <a:ext cx="59040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43400" y="20574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1" name="Rectangle 21"/>
          <p:cNvSpPr/>
          <p:nvPr/>
        </p:nvSpPr>
        <p:spPr>
          <a:xfrm>
            <a:off x="1670400" y="3276720"/>
            <a:ext cx="14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609480" y="22860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2 groups of 6 equals 12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1572480" y="2590920"/>
            <a:ext cx="140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46"/>
          <p:cNvGrpSpPr/>
          <p:nvPr/>
        </p:nvGrpSpPr>
        <p:grpSpPr>
          <a:xfrm>
            <a:off x="3505320" y="4419720"/>
            <a:ext cx="3638520" cy="1171440"/>
            <a:chOff x="3505320" y="4419720"/>
            <a:chExt cx="3638520" cy="1171440"/>
          </a:xfrm>
        </p:grpSpPr>
        <p:graphicFrame>
          <p:nvGraphicFramePr>
            <p:cNvPr id="336" name="Object 25"/>
            <p:cNvGraphicFramePr/>
            <p:nvPr/>
          </p:nvGraphicFramePr>
          <p:xfrm>
            <a:off x="3505320" y="4419720"/>
            <a:ext cx="590400" cy="56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7" name="Object 2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4419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Object 26"/>
            <p:cNvGraphicFramePr/>
            <p:nvPr/>
          </p:nvGraphicFramePr>
          <p:xfrm>
            <a:off x="4114800" y="4419720"/>
            <a:ext cx="590400" cy="561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9" name="Object 2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14800" y="4419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0" name="Object 27"/>
            <p:cNvGraphicFramePr/>
            <p:nvPr/>
          </p:nvGraphicFramePr>
          <p:xfrm>
            <a:off x="4724280" y="4419720"/>
            <a:ext cx="590760" cy="561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41" name="Object 2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441972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Object 28"/>
            <p:cNvGraphicFramePr/>
            <p:nvPr/>
          </p:nvGraphicFramePr>
          <p:xfrm>
            <a:off x="5334120" y="4419720"/>
            <a:ext cx="590400" cy="561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43" name="Object 2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34120" y="4419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4" name="Object 29"/>
            <p:cNvGraphicFramePr/>
            <p:nvPr/>
          </p:nvGraphicFramePr>
          <p:xfrm>
            <a:off x="5943600" y="4419720"/>
            <a:ext cx="590400" cy="56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45" name="Object 2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943600" y="4419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6" name="Object 30"/>
            <p:cNvGraphicFramePr/>
            <p:nvPr/>
          </p:nvGraphicFramePr>
          <p:xfrm>
            <a:off x="6553080" y="4419720"/>
            <a:ext cx="590760" cy="561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47" name="Object 3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553080" y="441972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8" name="Object 31"/>
            <p:cNvGraphicFramePr/>
            <p:nvPr/>
          </p:nvGraphicFramePr>
          <p:xfrm>
            <a:off x="3505320" y="5029200"/>
            <a:ext cx="590400" cy="561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49" name="Object 3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505320" y="50292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32"/>
            <p:cNvGraphicFramePr/>
            <p:nvPr/>
          </p:nvGraphicFramePr>
          <p:xfrm>
            <a:off x="4114800" y="5029200"/>
            <a:ext cx="590400" cy="561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51" name="Object 3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114800" y="50292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Object 33"/>
            <p:cNvGraphicFramePr/>
            <p:nvPr/>
          </p:nvGraphicFramePr>
          <p:xfrm>
            <a:off x="4724280" y="5029200"/>
            <a:ext cx="590760" cy="561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53" name="Object 33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724280" y="502920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Object 34"/>
            <p:cNvGraphicFramePr/>
            <p:nvPr/>
          </p:nvGraphicFramePr>
          <p:xfrm>
            <a:off x="5334120" y="5029200"/>
            <a:ext cx="590400" cy="5619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55" name="Object 3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334120" y="50292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35"/>
            <p:cNvGraphicFramePr/>
            <p:nvPr/>
          </p:nvGraphicFramePr>
          <p:xfrm>
            <a:off x="5943600" y="5029200"/>
            <a:ext cx="590400" cy="5619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357" name="Object 35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943600" y="50292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36"/>
            <p:cNvGraphicFramePr/>
            <p:nvPr/>
          </p:nvGraphicFramePr>
          <p:xfrm>
            <a:off x="6553080" y="5029200"/>
            <a:ext cx="590760" cy="5619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359" name="Object 36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553080" y="502920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0" name="Rectangle 37"/>
          <p:cNvSpPr/>
          <p:nvPr/>
        </p:nvSpPr>
        <p:spPr>
          <a:xfrm>
            <a:off x="1628280" y="4267080"/>
            <a:ext cx="14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45"/>
          <p:cNvGrpSpPr/>
          <p:nvPr/>
        </p:nvGrpSpPr>
        <p:grpSpPr>
          <a:xfrm>
            <a:off x="5715000" y="2057400"/>
            <a:ext cx="1200240" cy="1781280"/>
            <a:chOff x="5715000" y="2057400"/>
            <a:chExt cx="1200240" cy="1781280"/>
          </a:xfrm>
        </p:grpSpPr>
        <p:graphicFrame>
          <p:nvGraphicFramePr>
            <p:cNvPr id="362" name="Object 38"/>
            <p:cNvGraphicFramePr/>
            <p:nvPr/>
          </p:nvGraphicFramePr>
          <p:xfrm>
            <a:off x="5715000" y="2666880"/>
            <a:ext cx="590400" cy="5619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363" name="Object 38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715000" y="266688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4" name="Object 39"/>
            <p:cNvGraphicFramePr/>
            <p:nvPr/>
          </p:nvGraphicFramePr>
          <p:xfrm>
            <a:off x="5715000" y="3276720"/>
            <a:ext cx="590400" cy="56196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365" name="Object 39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5715000" y="3276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6" name="Object 40"/>
            <p:cNvGraphicFramePr/>
            <p:nvPr/>
          </p:nvGraphicFramePr>
          <p:xfrm>
            <a:off x="5715000" y="2057400"/>
            <a:ext cx="590400" cy="5619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367" name="Object 40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5715000" y="20574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41"/>
            <p:cNvGraphicFramePr/>
            <p:nvPr/>
          </p:nvGraphicFramePr>
          <p:xfrm>
            <a:off x="6324480" y="3276720"/>
            <a:ext cx="590760" cy="56196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369" name="Object 41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6324480" y="327672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Object 42"/>
            <p:cNvGraphicFramePr/>
            <p:nvPr/>
          </p:nvGraphicFramePr>
          <p:xfrm>
            <a:off x="6324480" y="2666880"/>
            <a:ext cx="590760" cy="56196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371" name="Object 42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6324480" y="266688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Object 43"/>
            <p:cNvGraphicFramePr/>
            <p:nvPr/>
          </p:nvGraphicFramePr>
          <p:xfrm>
            <a:off x="6324480" y="2057400"/>
            <a:ext cx="590760" cy="56196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373" name="Object 43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6324480" y="205740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over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"/>
          <p:cNvSpPr/>
          <p:nvPr/>
        </p:nvSpPr>
        <p:spPr>
          <a:xfrm>
            <a:off x="609480" y="228600"/>
            <a:ext cx="8153640" cy="350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We can also use multiplication to find the total number in this set without having to         count th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14"/>
          <p:cNvGraphicFramePr/>
          <p:nvPr/>
        </p:nvGraphicFramePr>
        <p:xfrm>
          <a:off x="2666880" y="3962520"/>
          <a:ext cx="5907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9625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15"/>
          <p:cNvGraphicFramePr/>
          <p:nvPr/>
        </p:nvGraphicFramePr>
        <p:xfrm>
          <a:off x="3276720" y="3962520"/>
          <a:ext cx="5904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9625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6"/>
          <p:cNvGraphicFramePr/>
          <p:nvPr/>
        </p:nvGraphicFramePr>
        <p:xfrm>
          <a:off x="3886200" y="3962520"/>
          <a:ext cx="59040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25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7"/>
          <p:cNvGraphicFramePr/>
          <p:nvPr/>
        </p:nvGraphicFramePr>
        <p:xfrm>
          <a:off x="4495680" y="3962520"/>
          <a:ext cx="59076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9625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8"/>
          <p:cNvGraphicFramePr/>
          <p:nvPr/>
        </p:nvGraphicFramePr>
        <p:xfrm>
          <a:off x="5105520" y="3962520"/>
          <a:ext cx="59040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39625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9"/>
          <p:cNvGraphicFramePr/>
          <p:nvPr/>
        </p:nvGraphicFramePr>
        <p:xfrm>
          <a:off x="5715000" y="3962520"/>
          <a:ext cx="59040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39625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20"/>
          <p:cNvGraphicFramePr/>
          <p:nvPr/>
        </p:nvGraphicFramePr>
        <p:xfrm>
          <a:off x="2666880" y="4572000"/>
          <a:ext cx="59076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8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66880" y="45720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21"/>
          <p:cNvGraphicFramePr/>
          <p:nvPr/>
        </p:nvGraphicFramePr>
        <p:xfrm>
          <a:off x="3276720" y="4572000"/>
          <a:ext cx="59040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22"/>
          <p:cNvGraphicFramePr/>
          <p:nvPr/>
        </p:nvGraphicFramePr>
        <p:xfrm>
          <a:off x="3886200" y="4572000"/>
          <a:ext cx="59040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2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23"/>
          <p:cNvGraphicFramePr/>
          <p:nvPr/>
        </p:nvGraphicFramePr>
        <p:xfrm>
          <a:off x="4495680" y="4572000"/>
          <a:ext cx="590760" cy="56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4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95680" y="45720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24"/>
          <p:cNvGraphicFramePr/>
          <p:nvPr/>
        </p:nvGraphicFramePr>
        <p:xfrm>
          <a:off x="5105520" y="4572000"/>
          <a:ext cx="590400" cy="56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0552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5"/>
          <p:cNvGraphicFramePr/>
          <p:nvPr/>
        </p:nvGraphicFramePr>
        <p:xfrm>
          <a:off x="5715000" y="4572000"/>
          <a:ext cx="59040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98" name="Object 2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34"/>
          <p:cNvGraphicFramePr/>
          <p:nvPr/>
        </p:nvGraphicFramePr>
        <p:xfrm>
          <a:off x="2666880" y="5181480"/>
          <a:ext cx="590760" cy="56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0" name="Object 3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66880" y="51814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5"/>
          <p:cNvGraphicFramePr/>
          <p:nvPr/>
        </p:nvGraphicFramePr>
        <p:xfrm>
          <a:off x="3276720" y="5181480"/>
          <a:ext cx="590400" cy="561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2" name="Object 3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27672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36"/>
          <p:cNvGraphicFramePr/>
          <p:nvPr/>
        </p:nvGraphicFramePr>
        <p:xfrm>
          <a:off x="3886200" y="5181480"/>
          <a:ext cx="590400" cy="561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4" name="Object 3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8620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37"/>
          <p:cNvGraphicFramePr/>
          <p:nvPr/>
        </p:nvGraphicFramePr>
        <p:xfrm>
          <a:off x="4495680" y="5181480"/>
          <a:ext cx="590760" cy="561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6" name="Object 3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495680" y="51814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38"/>
          <p:cNvGraphicFramePr/>
          <p:nvPr/>
        </p:nvGraphicFramePr>
        <p:xfrm>
          <a:off x="5105520" y="5181480"/>
          <a:ext cx="590400" cy="561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08" name="Object 3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39"/>
          <p:cNvGraphicFramePr/>
          <p:nvPr/>
        </p:nvGraphicFramePr>
        <p:xfrm>
          <a:off x="5715000" y="5181480"/>
          <a:ext cx="590400" cy="561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0" name="Object 3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71500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4-04-06T21:38:53Z</dcterms:modified>
  <cp:revision>11</cp:revision>
  <dc:subject/>
  <dc:title>PowerPoint Presentation</dc:title>
</cp:coreProperties>
</file>